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ralarmoff.wav" ContentType="audio/x-wav"/>
  <Override PartName="/ppt/media/lzipup01.wav" ContentType="audio/x-wav"/>
  <Override PartName="/ppt/media/highchime.wav" ContentType="audio/x-wav"/>
  <Override PartName="/ppt/media/hzipup01.wav" ContentType="audio/x-wav"/>
  <Override PartName="/ppt/media/image3.gif" ContentType="image/gif"/>
  <Override PartName="/ppt/media/jetflyby2.wav" ContentType="audio/x-wav"/>
  <Override PartName="/ppt/media/bserie06.wav" ContentType="audio/x-wav"/>
  <Override PartName="/ppt/media/zapbig0g.wav" ContentType="audio/x-wav"/>
  <Override PartName="/ppt/media/image2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BF1-52E2-4696-8FE9-44C3C927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6A7-644F-40E6-9B56-0050F57A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D4A-AD51-41EE-8071-35040920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901-27A0-45EA-B8D6-4ECB6F64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BBE-1528-4B3D-8D30-A21E89A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929-D507-40C8-ACA3-95DB1DED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F1A-8B03-4CB5-8AD6-86E0601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C56-B52C-47A4-81B2-6D5BF20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8BB-FEF2-4344-9EB0-32A6C7FB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E5C-B9C6-4D80-9B09-92C0419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706-6F6B-40D8-854E-5ED9BBC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97A-72E0-47EE-A5CC-3961A3AA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D94-5F6B-43D5-A5A9-AE0FBB467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146240"/>
            <a:ext cx="333360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14400"/>
            <a:ext cx="58928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jacket costs $40.00. A store discounted it 20%. How much money would you sav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46860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5440" y="577044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3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48600" y="1050840"/>
            <a:ext cx="1895400" cy="333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14400"/>
            <a:ext cx="7083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$30.00 shirt is discounted 25%. How much money would you save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1324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60960" y="5754600"/>
            <a:ext cx="3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5480" y="1109520"/>
            <a:ext cx="2738520" cy="27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14400"/>
            <a:ext cx="6473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 the amount you would save on $10.00 jeans discounted 30%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984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5440" y="577044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14400"/>
            <a:ext cx="6473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 the amount you would save on a $25.00 sweatshirt discounted 35%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47040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51200" y="5624640"/>
                <a:ext cx="19112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087880" y="31561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672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3716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97600" y="3743280"/>
            <a:ext cx="12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672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9448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7200" y="4962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2960" y="496404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5240" y="576252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9756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57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6240" y="575136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3120" y="267984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772240"/>
            <a:ext cx="3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V="1" rot="16200000">
            <a:off x="680436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 rot="16200000">
            <a:off x="640584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 rot="16200000">
            <a:off x="6693120" y="62895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 rot="16200000">
            <a:off x="6294600" y="62881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148440" y="2633760"/>
            <a:ext cx="538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9840" y="1635120"/>
            <a:ext cx="19764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9, 10 – 11 #1-5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7/1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9T16:14:00Z</dcterms:modified>
  <cp:revision>101</cp:revision>
  <dc:subject/>
  <dc:title>Slide 1</dc:title>
</cp:coreProperties>
</file>